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4C749-07A0-4861-83E3-20A72BB42562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2F983-C398-4EDF-BBAB-92A91F903EC2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D7AD-3FC7-4224-9E61-FB0A591A4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ACF3-4099-4473-A724-4BFBC0802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E5F5-9CA2-4EE9-86CD-B64ACB41E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1676-7C03-43D8-B22A-84FA3F7A6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7CCF-B150-45CF-9305-1DBD7E3B6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538B-875F-4910-B365-769F545FC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8980-8C8F-464C-BF6F-ED101F00F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2AAA-72DA-4232-B742-E7BE49366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411C-547B-4764-9C62-1F29845CC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A772-D1EF-4285-A6AA-31042F668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8255-CD7A-4402-9DF0-9A1530B26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5242-62D7-4F14-827D-20C435921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9F50F-4889-41D0-8E3C-20B02A992EF6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남대학교의료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해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승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9.01.28 ~ 2.20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2" name="Picture 5" descr="map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반 버스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-1, 410, 410-1, 405, 452, 503, 604, 805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달서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 65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영대병원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구광역시 남구 대명동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17-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연락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53-623-8001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넥타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검정색 종류의 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히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격주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,0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재활치료 분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FES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7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&amp; topic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있을수도 없을수도 있으며 일정에 따라 달라진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보통 짧으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길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정도 소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시로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일지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art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별로 틀리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마지막주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안할 수 도 있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54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 외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6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위주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NF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흡운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bobath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-284400">
              <a:lnSpc>
                <a:spcPct val="2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modality, manua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환자 우선으로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4572000" y="1447920"/>
            <a:ext cx="347652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FES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FES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치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스트레칭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ROM, FES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종합병원급의 시스템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참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낙후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 시간 때 쉴 공간이 없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에는 밥이 맛없었다고 하나 그냥 그럭저럭 먹을만 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 말고는 계속 서 있어야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분야로 나뉘어 있어서 모든 분야를 경험 할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대병원으로 오세용 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ㅁ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44Z</dcterms:modified>
  <cp:revision>11</cp:revision>
  <dc:subject/>
  <dc:title>영남대학교의료원</dc:title>
</cp:coreProperties>
</file>